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58760" y="358848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0808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680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7448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5876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680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7448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85840" y="128520"/>
            <a:ext cx="78487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0808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58760" y="358848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0808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6680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7448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5876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6680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7448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85840" y="128520"/>
            <a:ext cx="78487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0808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9"/>
          <p:cNvSpPr/>
          <p:nvPr/>
        </p:nvSpPr>
        <p:spPr>
          <a:xfrm>
            <a:off x="7516080" y="612144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52428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452400" y="6494400"/>
            <a:ext cx="28954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07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78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椭圆形标注 7"/>
          <p:cNvSpPr/>
          <p:nvPr/>
        </p:nvSpPr>
        <p:spPr>
          <a:xfrm>
            <a:off x="1676520" y="3200400"/>
            <a:ext cx="1066680" cy="114300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Прямоугольник 2"/>
          <p:cNvSpPr/>
          <p:nvPr/>
        </p:nvSpPr>
        <p:spPr>
          <a:xfrm>
            <a:off x="395280" y="1260360"/>
            <a:ext cx="871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Times New Roman"/>
                <a:ea typeface="SimSun"/>
              </a:rPr>
              <a:t>Роль родителей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Times New Roman"/>
                <a:ea typeface="SimSun"/>
              </a:rPr>
              <a:t>в работе над индивидуальным проектом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Times New Roman"/>
                <a:ea typeface="SimSun"/>
              </a:rPr>
              <a:t>обучающихся 10х класс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3930120" y="4549680"/>
            <a:ext cx="540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SimSun"/>
              </a:rPr>
              <a:t>Подготовила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SimSun"/>
              </a:rPr>
              <a:t>Яркова Ирина Викторовна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SimSun"/>
              </a:rPr>
              <a:t>педагог-психолог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SimSun"/>
              </a:rPr>
              <a:t>учитель по предмет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SimSun"/>
              </a:rPr>
              <a:t>«Индивидуальный итоговый проект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1452960" y="922320"/>
            <a:ext cx="67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е руководства  проект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17520" y="1666800"/>
            <a:ext cx="8415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26262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могает ученикам определить цель деятельност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26262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екомендует источники получения информаци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26262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аскрывает возможные формы деятельност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26262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одействует прогнозированию результатов выполняемого проект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26262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оздаёт условия для активности школьник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26262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является партнёром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26262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могает ученику оценить полученный результат и т. 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198360" y="740880"/>
            <a:ext cx="85489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Действия ученика можно охарактеризовать так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пределяет цель своей деятельност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ткрывает новые зна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экспериментирует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ыбирает пути решения возникающих проблем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есёт ответственность за свою деятельность и т. 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оэтому в работе над проектом у учеников должен быть определённый набор качеств и умений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качества: самостоятельность, инициативность, целеполагание, креативность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умения: исследовательские, оценочные, информационные, презентационные, рефлексивны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517680" y="740880"/>
            <a:ext cx="7989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участия родителей в проектной деятельности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тивационная поддержка – показать собственную заинтересованность к теме реализуемого проект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ая поддержка – родители выступают источником информации для ребёнка, помощником в поиске нужной информации (написание доклада, поиск художественной литературы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ая поддержка – сопровождение детей в музей, библиотеку и т. 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ая поддержка – фото- и видео- съёмка, монтаж материалов, составление презентац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1962000" y="2192040"/>
            <a:ext cx="545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4:55:55Z</dcterms:created>
  <dc:creator/>
  <dc:description/>
  <cp:keywords/>
  <dc:language>en-US</dc:language>
  <cp:lastModifiedBy>Пользователь</cp:lastModifiedBy>
  <cp:lastPrinted>1899-12-30T00:00:00Z</cp:lastPrinted>
  <dcterms:modified xsi:type="dcterms:W3CDTF">2021-02-04T05:29:47Z</dcterms:modified>
  <cp:revision>8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